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739D2-F807-4470-AA8C-322D87527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7967A-7C7A-4B39-956A-25187E4B9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87BE2-CE5B-4E1E-BB5B-371FA5192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C1386-C3A3-496A-AA71-0A3523739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59A58-C7D3-4A01-A8AA-9D752412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0A5C-3883-4D55-95B0-3727CBC6D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28F6-302F-4F68-9359-5F9685C8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A595-0E2B-444D-8E2C-1265CEDB8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973F-B6FC-4E67-A07E-6BF8B9A52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EFD70-F94A-485F-9AD4-AB4F0610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D18A-E4EF-4380-89A0-815D0C39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1C5A-0145-407D-B81D-802542ED7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7989D-1B4E-473A-842C-660B7B2A5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09480" y="533520"/>
            <a:ext cx="7772400" cy="4114800"/>
          </a:xfrm>
          <a:prstGeom prst="rect">
            <a:avLst/>
          </a:prstGeom>
          <a:noFill/>
          <a:ln w="0">
            <a:noFill/>
          </a:ln>
        </p:spPr>
        <p:txBody>
          <a:bodyPr lIns="90000" rIns="90000" tIns="46800" bIns="46800" anchor="t">
            <a:normAutofit fontScale="74000"/>
          </a:bodyPr>
          <a:p>
            <a:pPr marL="253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Repeated feedback among essays - what not to do</a:t>
            </a:r>
            <a:endParaRPr b="0" lang="en-US" sz="28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strong topic sentence that orients discussion around support for thesis, NOT plot</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Using exclusively full sentence quotations, often with repetitive language announcing the use of a quote, and comma to introduce long quote:</a:t>
            </a:r>
            <a:endParaRPr b="0" lang="en-US" sz="2400" spc="-1" strike="noStrike">
              <a:solidFill>
                <a:srgbClr val="000000"/>
              </a:solidFill>
              <a:latin typeface="Arial"/>
            </a:endParaRPr>
          </a:p>
          <a:p>
            <a:pPr marL="25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By looking at this quote, one can see…” or </a:t>
            </a:r>
            <a:endParaRPr b="0" lang="en-US" sz="2400" spc="-1" strike="noStrike">
              <a:solidFill>
                <a:srgbClr val="000000"/>
              </a:solidFill>
              <a:latin typeface="Arial"/>
            </a:endParaRPr>
          </a:p>
          <a:p>
            <a:pPr marL="253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	</a:t>
            </a:r>
            <a:r>
              <a:rPr b="0" lang="en-US" sz="2400" spc="-1" strike="noStrike">
                <a:solidFill>
                  <a:srgbClr val="000000"/>
                </a:solidFill>
                <a:latin typeface="Arno Pro"/>
              </a:rPr>
              <a:t>	</a:t>
            </a:r>
            <a:r>
              <a:rPr b="0" lang="en-US" sz="2400" spc="-1" strike="noStrike">
                <a:solidFill>
                  <a:srgbClr val="000000"/>
                </a:solidFill>
                <a:latin typeface="Arno Pro"/>
              </a:rPr>
              <a:t>“</a:t>
            </a:r>
            <a:r>
              <a:rPr b="0" lang="en-US" sz="2400" spc="-1" strike="noStrike">
                <a:solidFill>
                  <a:srgbClr val="000000"/>
                </a:solidFill>
                <a:latin typeface="Arno Pro"/>
              </a:rPr>
              <a:t>The following quote shows…”</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luding quote first and </a:t>
            </a:r>
            <a:r>
              <a:rPr b="0" lang="en-US" sz="2400" spc="-1" strike="noStrike" u="sng">
                <a:solidFill>
                  <a:srgbClr val="000000"/>
                </a:solidFill>
                <a:uFillTx/>
                <a:latin typeface="Arno Pro"/>
              </a:rPr>
              <a:t>then</a:t>
            </a:r>
            <a:r>
              <a:rPr b="0" lang="en-US" sz="2400" spc="-1" strike="noStrike">
                <a:solidFill>
                  <a:srgbClr val="000000"/>
                </a:solidFill>
                <a:latin typeface="Arno Pro"/>
              </a:rPr>
              <a:t> explaining the context of the quote</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Incorrect use of parenthetical citation format</a:t>
            </a:r>
            <a:endParaRPr b="0" lang="en-US" sz="2400" spc="-1" strike="noStrike">
              <a:solidFill>
                <a:srgbClr val="000000"/>
              </a:solidFill>
              <a:latin typeface="Arial"/>
            </a:endParaRPr>
          </a:p>
          <a:p>
            <a:pPr marL="253800" indent="-253800">
              <a:lnSpc>
                <a:spcPct val="100000"/>
              </a:lnSpc>
              <a:spcBef>
                <a:spcPts val="601"/>
              </a:spcBef>
              <a:buClr>
                <a:srgbClr val="000000"/>
              </a:buClr>
              <a:buFont typeface="Arno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no Pro"/>
              </a:rPr>
              <a:t>Lack of mini-conclusion at end of paragraph that wraps up all the ideas discussed with an eye to signific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152280"/>
            <a:ext cx="8763120" cy="64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irst-person narrator of Bill Capossere’s story “A Wind from the North” emphasizes the important distance between his own life and that of his unknowable unc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opic sentence establishes name of text and author, responds directly to the prompt and sets up a focus for the rest of the ide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Bill Capossere’s story “A Wind from the North” is about the death of the narrator’s uncle during a snow st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152280"/>
            <a:ext cx="8763120" cy="1007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a:t>
            </a:r>
            <a:r>
              <a:rPr b="0" sz="1600" spc="-1" strike="noStrike">
                <a:solidFill>
                  <a:srgbClr val="000000"/>
                </a:solidFill>
                <a:latin typeface="Arno Pro"/>
              </a:rPr>
              <a:t>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Carefully use correct parenthetical citation format: end the quote, end quote mark, parenthetical citation, end parenthetical citation, peri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badi MT Condensed Extra Bold"/>
              </a:rPr>
              <a:t>WHAT NOT TO 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Compare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narrative initially establishes separation between the cold linked to the unnamed uncle and the heat linked to the narrator in the first sent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52280"/>
            <a:ext cx="8763120" cy="982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14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lack of indent in the line that comes after, and the follow up on the significance of the quote at the e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only pieces of quotes incorporated into your own original sentences to make the ideas more intrinsically your ow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Use brackets [] to indicate words you’ve added to quotes or ways you’ve had to shift the langauge of the quote to fit in your grammatical struct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If you continue to refer to only one source, once you’re cited the author in the first parenthetical citation, you can provide page citations alone for subsequent 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152280"/>
            <a:ext cx="8763120" cy="93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a:t>
            </a:r>
            <a:r>
              <a:rPr b="0" sz="1600" spc="-1" strike="noStrike">
                <a:solidFill>
                  <a:srgbClr val="000000"/>
                </a:solidFill>
                <a:latin typeface="Arno Pro"/>
              </a:rPr>
              <a:t>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final sentence that ties together the points made in direct acknowledgment of the stated question and my focus for the paragraph as established in the topic sente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52280"/>
            <a:ext cx="8763120" cy="1007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     </a:t>
            </a:r>
            <a:r>
              <a:rPr b="0" sz="1600" spc="-1" strike="noStrike">
                <a:solidFill>
                  <a:srgbClr val="808080"/>
                </a:solidFill>
                <a:latin typeface="Arno Pro"/>
              </a:rPr>
              <a:t>eventually, to my own </a:t>
            </a:r>
            <a:r>
              <a:rPr b="0" i="1" sz="1600" spc="-1" strike="noStrike">
                <a:solidFill>
                  <a:srgbClr val="808080"/>
                </a:solidFill>
                <a:latin typeface="Arno Pro"/>
              </a:rPr>
              <a:t>heated</a:t>
            </a:r>
            <a:r>
              <a:rPr b="0" sz="1600" spc="-1" strike="noStrike">
                <a:solidFill>
                  <a:srgbClr val="808080"/>
                </a:solidFill>
                <a:latin typeface="Arno Pro"/>
              </a:rPr>
              <a:t> home” (Capossere 145, emphasis added).</a:t>
            </a:r>
            <a:r>
              <a:rPr b="0"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80808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Capossere, Bill.  “A Wind from the North.”  </a:t>
            </a:r>
            <a:r>
              <a:rPr b="0" i="1" lang="en-US" sz="1600" spc="-1" strike="noStrike">
                <a:solidFill>
                  <a:srgbClr val="000000"/>
                </a:solidFill>
                <a:latin typeface="Arno Pro"/>
              </a:rPr>
              <a:t>Imaginative Writing The Elements of Craft (Penguin Academics Series).</a:t>
            </a:r>
            <a:r>
              <a:rPr b="0" lang="en-US"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	</a:t>
            </a:r>
            <a:r>
              <a:rPr b="0" lang="en-US" sz="1600" spc="-1" strike="noStrike">
                <a:solidFill>
                  <a:srgbClr val="000000"/>
                </a:solidFill>
                <a:latin typeface="Arno Pro"/>
              </a:rPr>
              <a:t>Ed. Janet Burroway.  New York: Longman, 2007. 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152280"/>
            <a:ext cx="8763120" cy="982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narrator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first-person narrator of Bill Capossere’s story “A Wind from the North” emphasizes the important distance between his own life and that of his unknowable uncle. The narrative initially establishes separation between the cold linked to the unnamed uncle and the heat linked to the narrator in the first sentenc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When three days had passed and the snow still lay in smooth unbrushed drifts across the cold glass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silvery metal of the car, the neighbors, curious or concerned, began a trail of telephone calls that l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     </a:t>
            </a:r>
            <a:r>
              <a:rPr b="0" sz="1600" spc="-1" strike="noStrike">
                <a:solidFill>
                  <a:srgbClr val="000000"/>
                </a:solidFill>
                <a:latin typeface="Arno Pro"/>
              </a:rPr>
              <a:t>eventually, to my own </a:t>
            </a:r>
            <a:r>
              <a:rPr b="0" i="1" sz="1600" spc="-1" strike="noStrike">
                <a:solidFill>
                  <a:srgbClr val="000000"/>
                </a:solidFill>
                <a:latin typeface="Arno Pro"/>
              </a:rPr>
              <a:t>heated</a:t>
            </a:r>
            <a:r>
              <a:rPr b="0" sz="1600" spc="-1" strike="noStrike">
                <a:solidFill>
                  <a:srgbClr val="000000"/>
                </a:solidFill>
                <a:latin typeface="Arno Pro"/>
              </a:rPr>
              <a:t> home” (Capossere 145, emphasis add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no Pro"/>
              </a:rPr>
              <a:t>The sterile imagery of “cold glass and silvery metal,” added with “stainless steel sink[s],” “bloodless” hands, and the “metalic taste of loneliness” (145-146) associated with his uncle haunts the narrator, who creates a hollow repeating chorus “five or six days” dead without notice to mark the uncle’s passing.  The third paragraph creates a string of five seemingly rhetorical questions, starting with, “What sort of life creates this sort of death?” (145), providing shape to the narrator’s unease with the string of events.  The rest of the essay answers this question while further distancing the narrator from sharing the uncle’s fate, that he “never rode” in one of the string of “sleek and sporty and untouchable” new cars that his uncle bought, and so therefore has not been contaminated by his uncle’s weak example.  It is through thinking reflectively about a life hardly lived that the author asserts meaning in his own life, reassuring himself that his will not be ruined by the same empty drif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Capossere, Bill.  “A Wind from the North.”  </a:t>
            </a:r>
            <a:r>
              <a:rPr b="0" i="1" lang="en-US" sz="1600" spc="-1" strike="noStrike">
                <a:solidFill>
                  <a:srgbClr val="000000"/>
                </a:solidFill>
                <a:latin typeface="Arno Pro"/>
              </a:rPr>
              <a:t>Imaginative Writing The Elements of Craft (Penguin Academics Series).</a:t>
            </a:r>
            <a:r>
              <a:rPr b="0" lang="en-US"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no Pro"/>
              </a:rPr>
              <a:t>	</a:t>
            </a:r>
            <a:r>
              <a:rPr b="0" lang="en-US" sz="1600" spc="-1" strike="noStrike">
                <a:solidFill>
                  <a:srgbClr val="000000"/>
                </a:solidFill>
                <a:latin typeface="Arno Pro"/>
              </a:rPr>
              <a:t>Ed. Janet Burroway.  New York: Longman, 2007. Pr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Abadi MT Condensed Extra Bold"/>
              </a:rPr>
              <a:t>How is the uncle characterized in Bill Cappossere’s short story, “A Wind from the Nor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2-08T16:02:23Z</dcterms:modified>
  <cp:revision>10</cp:revision>
  <dc:subject/>
  <dc:title>PowerPoint Presentation</dc:title>
</cp:coreProperties>
</file>